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9F4-044E-4984-880E-13930AB2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D2D-572E-4BBD-B8BF-F8A6187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CF8-E2F5-48D2-B740-25A87500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9CD-09F0-4766-85BC-8C96886C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530-1656-4373-8258-F67C9BA8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06B-06FF-4DCC-A7C1-951733FC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2E8-485D-4B34-8F3A-C096B54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485-5C24-4133-B359-2D312290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DED-1855-4733-A1AE-6E3375EC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E9A-9701-4AAF-86DC-94EE669C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678-14BD-4EF8-AF57-5887A31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427-4EE6-423E-9CEF-0F28A34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466B-CABC-4586-8895-6A461E2AC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in Metric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8960" y="2068560"/>
            <a:ext cx="44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Measuring in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3822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458200" cy="348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209680"/>
            <a:ext cx="64008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276720"/>
            <a:ext cx="6095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038480"/>
            <a:ext cx="4419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381880" cy="85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44197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7240" y="209700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change from one unit to an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36:19Z</dcterms:created>
  <dc:creator>Graham</dc:creator>
  <dc:description/>
  <dc:language>en-US</dc:language>
  <cp:lastModifiedBy>Graham</cp:lastModifiedBy>
  <dcterms:modified xsi:type="dcterms:W3CDTF">2011-08-31T23:36:22Z</dcterms:modified>
  <cp:revision>2</cp:revision>
  <dc:subject/>
  <dc:title>Lesson 1.4 Measuring in Metric Units</dc:title>
</cp:coreProperties>
</file>